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0BF-851F-42F7-839E-3D622720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321-27A5-49BA-80EE-9DE5ACD7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C9E-8E64-4E24-AF88-29A6914A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027-97D8-4B2A-9D6D-FF6E2262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DBA-F7FF-419F-BAF4-6F3AC3A6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9D7-219D-425A-AADB-5FFDB7A6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A65-6DA9-49C9-A912-BED57F53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350-9376-46B0-93D7-E22F4395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A76-96C4-469B-9A7C-6A4CE656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B40-5727-40CF-A13A-8EDD5C8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A58-C2FD-4220-AC32-60FEDB7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A39-E2D5-4749-A40E-51BD3EB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A61-2908-40F4-986D-D27EA39A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363120" y="495288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560" y="60199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1192320"/>
            <a:ext cx="7795440" cy="2260440"/>
            <a:chOff x="380880" y="1192320"/>
            <a:chExt cx="7795440" cy="2260440"/>
          </a:xfrm>
        </p:grpSpPr>
        <p:sp>
          <p:nvSpPr>
            <p:cNvPr id="236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2311560"/>
              <a:ext cx="35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5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4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7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3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14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28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2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35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38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1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47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0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53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59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2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66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1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58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65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68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74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79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2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85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88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1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597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0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09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2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15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47880" y="6303960"/>
            <a:ext cx="5657760" cy="289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61560" y="6334200"/>
            <a:ext cx="253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Charakterystyka amplitudowo-c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60040" y="6334200"/>
            <a:ext cx="274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ęstotliwościowa pętli PLL bez filtr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585800" y="2925720"/>
            <a:ext cx="5204160" cy="3382200"/>
            <a:chOff x="1585800" y="2925720"/>
            <a:chExt cx="5204160" cy="3382200"/>
          </a:xfrm>
        </p:grpSpPr>
        <p:sp>
          <p:nvSpPr>
            <p:cNvPr id="736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884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8936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7200" y="3106800"/>
              <a:ext cx="32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2128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4980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815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2055600" y="5778360"/>
              <a:ext cx="46400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7840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4476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2404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5100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11720" y="3106800"/>
              <a:ext cx="180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881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3640" y="3106800"/>
              <a:ext cx="14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707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99240" y="3110040"/>
              <a:ext cx="468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007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2440" y="3110040"/>
              <a:ext cx="50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4676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6904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055600" y="3103560"/>
              <a:ext cx="46400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2055600" y="375408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2058480" y="4754520"/>
              <a:ext cx="4629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79880" y="4290840"/>
              <a:ext cx="1708200" cy="146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57920" y="4362480"/>
              <a:ext cx="98280" cy="1429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35000" y="584676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48080" y="5846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4720" y="5846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14320" y="46641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84520" y="46782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25480" y="56167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95320" y="5632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74520" y="3718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6680" y="3390840"/>
              <a:ext cx="320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85800" y="3173400"/>
              <a:ext cx="180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43280" y="31734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20720" y="3165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31880" y="3397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15760" y="31654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26920" y="33973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39240" y="326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47520" y="349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32440" y="6068880"/>
              <a:ext cx="23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0800" y="582120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64120" y="609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88760" y="292572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65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76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89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04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26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32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1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47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56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62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89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996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0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2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8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423720" y="1074600"/>
            <a:ext cx="8210520" cy="5470560"/>
            <a:chOff x="423720" y="1074600"/>
            <a:chExt cx="8210520" cy="5470560"/>
          </a:xfrm>
        </p:grpSpPr>
        <p:sp>
          <p:nvSpPr>
            <p:cNvPr id="1062" name=""/>
            <p:cNvSpPr/>
            <p:nvPr/>
          </p:nvSpPr>
          <p:spPr>
            <a:xfrm>
              <a:off x="1913040" y="2124000"/>
              <a:ext cx="1440" cy="34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3400" y="1590840"/>
              <a:ext cx="1440" cy="39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83400" y="1620720"/>
              <a:ext cx="92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96000" y="1940040"/>
              <a:ext cx="795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775560" y="1503360"/>
              <a:ext cx="14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775560" y="1940040"/>
              <a:ext cx="1440" cy="67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646240" y="1881360"/>
              <a:ext cx="1011600" cy="87120"/>
              <a:chOff x="5646240" y="1881360"/>
              <a:chExt cx="1011600" cy="8712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5646240" y="1922400"/>
                <a:ext cx="1011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70720" y="188136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6172200" y="2073240"/>
              <a:ext cx="14292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38800" y="193212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238800" y="244332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02240" y="2190600"/>
              <a:ext cx="1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24280" y="2274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190656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57680" y="1998720"/>
              <a:ext cx="1440" cy="23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870280" y="1960560"/>
              <a:ext cx="20952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2870280" y="2154240"/>
              <a:ext cx="129960" cy="87480"/>
              <a:chOff x="2870280" y="2154240"/>
              <a:chExt cx="129960" cy="87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2870280" y="2170080"/>
                <a:ext cx="129960" cy="68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95480" y="2154240"/>
                <a:ext cx="104760" cy="8748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66" y="53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3000240" y="2238480"/>
              <a:ext cx="79560" cy="3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722320" y="2124000"/>
              <a:ext cx="135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79800" y="2274840"/>
              <a:ext cx="1440" cy="49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079800" y="15156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81200" y="2124000"/>
              <a:ext cx="146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42080" y="1473120"/>
              <a:ext cx="58680" cy="55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54800" y="2090880"/>
              <a:ext cx="172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64160" y="2090880"/>
              <a:ext cx="8244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646600" y="2090520"/>
              <a:ext cx="9396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67400" y="2195640"/>
              <a:ext cx="173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23960" y="1457280"/>
              <a:ext cx="37296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77800" y="1523880"/>
              <a:ext cx="1587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1994040" y="1518840"/>
              <a:ext cx="18540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79480" y="1138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45280" y="142704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2360" y="149868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715000" y="1495080"/>
              <a:ext cx="1790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1074600"/>
              <a:ext cx="268200" cy="306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00800" y="1108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55960" y="205740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13040" y="2128680"/>
              <a:ext cx="155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425680" y="2128680"/>
              <a:ext cx="184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78000" y="1738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87440" y="1822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54240" y="1503360"/>
              <a:ext cx="5580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13600" y="1901880"/>
              <a:ext cx="5868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34960" y="150336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4240" y="2448000"/>
              <a:ext cx="590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05200" y="1503360"/>
              <a:ext cx="5868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6460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18160" y="237960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48360" y="213192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00240" y="276228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33480" y="3048120"/>
              <a:ext cx="16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89240" y="2157480"/>
              <a:ext cx="15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584680" y="2825640"/>
              <a:ext cx="155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086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22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46600" y="1922400"/>
              <a:ext cx="180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46600" y="220824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6888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5605560" y="2484360"/>
              <a:ext cx="87120" cy="290520"/>
              <a:chOff x="5605560" y="2484360"/>
              <a:chExt cx="87120" cy="290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5646600" y="2484360"/>
                <a:ext cx="1800" cy="290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605560" y="248436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26" y="0"/>
                    </a:ln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48034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92400" y="183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93092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52600" y="2627280"/>
              <a:ext cx="411120" cy="270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01560" y="266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90480" y="27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49520" y="2662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40280" y="1717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727760" y="1801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86800" y="1717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19680" y="1725480"/>
              <a:ext cx="411120" cy="2653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82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57200" y="183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660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14600" y="2527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03520" y="26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560" y="2527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53720" y="1779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41200" y="18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179720" y="1779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3449520" y="5961240"/>
              <a:ext cx="136440" cy="60120"/>
              <a:chOff x="3449520" y="5961240"/>
              <a:chExt cx="136440" cy="60120"/>
            </a:xfrm>
          </p:grpSpPr>
          <p:sp>
            <p:nvSpPr>
              <p:cNvPr id="1147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533680" y="6226200"/>
              <a:ext cx="203040" cy="243000"/>
              <a:chOff x="2533680" y="6226200"/>
              <a:chExt cx="203040" cy="243000"/>
            </a:xfrm>
          </p:grpSpPr>
          <p:sp>
            <p:nvSpPr>
              <p:cNvPr id="1150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2187720" y="5961240"/>
              <a:ext cx="345960" cy="264960"/>
              <a:chOff x="2187720" y="5961240"/>
              <a:chExt cx="345960" cy="264960"/>
            </a:xfrm>
          </p:grpSpPr>
          <p:sp>
            <p:nvSpPr>
              <p:cNvPr id="1153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251000" y="6226200"/>
              <a:ext cx="203040" cy="243000"/>
              <a:chOff x="1251000" y="6226200"/>
              <a:chExt cx="203040" cy="243000"/>
            </a:xfrm>
          </p:grpSpPr>
          <p:sp>
            <p:nvSpPr>
              <p:cNvPr id="1156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905040" y="5961240"/>
              <a:ext cx="347400" cy="264960"/>
              <a:chOff x="905040" y="5961240"/>
              <a:chExt cx="347400" cy="264960"/>
            </a:xfrm>
          </p:grpSpPr>
          <p:sp>
            <p:nvSpPr>
              <p:cNvPr id="1159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184560" y="3959280"/>
              <a:ext cx="347400" cy="264960"/>
              <a:chOff x="3184560" y="3959280"/>
              <a:chExt cx="347400" cy="264960"/>
            </a:xfrm>
          </p:grpSpPr>
          <p:sp>
            <p:nvSpPr>
              <p:cNvPr id="1162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219" y="16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2832120" y="4224240"/>
              <a:ext cx="345960" cy="265320"/>
              <a:chOff x="2832120" y="4224240"/>
              <a:chExt cx="345960" cy="265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552760" y="4224240"/>
              <a:ext cx="347760" cy="265320"/>
              <a:chOff x="2552760" y="4224240"/>
              <a:chExt cx="347760" cy="265320"/>
            </a:xfrm>
          </p:grpSpPr>
          <p:sp>
            <p:nvSpPr>
              <p:cNvPr id="1168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19" y="0"/>
                    </a:lnTo>
                    <a:lnTo>
                      <a:pt x="219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2201760" y="3959280"/>
              <a:ext cx="345960" cy="264960"/>
              <a:chOff x="2201760" y="3959280"/>
              <a:chExt cx="345960" cy="264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1909800" y="3959280"/>
              <a:ext cx="345960" cy="264960"/>
              <a:chOff x="1909800" y="3959280"/>
              <a:chExt cx="345960" cy="264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1563840" y="4224240"/>
              <a:ext cx="345960" cy="265320"/>
              <a:chOff x="1563840" y="4224240"/>
              <a:chExt cx="345960" cy="265320"/>
            </a:xfrm>
          </p:grpSpPr>
          <p:sp>
            <p:nvSpPr>
              <p:cNvPr id="1177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1273320" y="4224240"/>
              <a:ext cx="344520" cy="265320"/>
              <a:chOff x="1273320" y="4224240"/>
              <a:chExt cx="344520" cy="265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217" y="0"/>
                    </a:lnTo>
                    <a:lnTo>
                      <a:pt x="217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925560" y="3959280"/>
              <a:ext cx="347760" cy="264960"/>
              <a:chOff x="925560" y="3959280"/>
              <a:chExt cx="347760" cy="264960"/>
            </a:xfrm>
          </p:grpSpPr>
          <p:sp>
            <p:nvSpPr>
              <p:cNvPr id="1183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608040" y="3959280"/>
              <a:ext cx="345960" cy="264960"/>
              <a:chOff x="608040" y="3959280"/>
              <a:chExt cx="345960" cy="264960"/>
            </a:xfrm>
          </p:grpSpPr>
          <p:sp>
            <p:nvSpPr>
              <p:cNvPr id="1186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84280" y="3957480"/>
              <a:ext cx="3232800" cy="5040"/>
              <a:chOff x="584280" y="3957480"/>
              <a:chExt cx="3232800" cy="504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2085840" y="3957480"/>
                <a:ext cx="1731240" cy="5040"/>
                <a:chOff x="2085840" y="3957480"/>
                <a:chExt cx="1731240" cy="504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3812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80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95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87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79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69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620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52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744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35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270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17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09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700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69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682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674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665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65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6493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639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631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22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614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04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596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587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57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569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561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552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54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53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526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519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509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501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492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484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474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66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457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449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4394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31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2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41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404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3966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38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37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3714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3616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353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3344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336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3326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318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30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30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2918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283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27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26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256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2490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241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231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2238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2140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206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96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188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1791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31712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161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315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14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136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126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11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10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101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093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084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0762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6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058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049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0412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03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023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014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00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99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988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979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97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9635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953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945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936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9286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918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910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901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89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88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76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866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85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4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841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31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823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815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06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798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7885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7806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771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763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7536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745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73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72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718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7108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70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69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6856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758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67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658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650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6409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6330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62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61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060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98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8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8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71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632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55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545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538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5282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20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11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503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93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85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76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6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45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0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441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3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42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415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407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398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390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380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372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363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3554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34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37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328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320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31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302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293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285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777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68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260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250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2428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233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225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215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207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19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190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180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172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16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155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45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138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129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120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112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02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094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085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2077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068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060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50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04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033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025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016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00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00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990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982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973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965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955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47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938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93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920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912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903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89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885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77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868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860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52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842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834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825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817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07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800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790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78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7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65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55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4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3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30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722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712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7049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95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87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677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6700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6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652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643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62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17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608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60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92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82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574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565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573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547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39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530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224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1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04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95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48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47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469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46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45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444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34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427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4173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409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400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392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3824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74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36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35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47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39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3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32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31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04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296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28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279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269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261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5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24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234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226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1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20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99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91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8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7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6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57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49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31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2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142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9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9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4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3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2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191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01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842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66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4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31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1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8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15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53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366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19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0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4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74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6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58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9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3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6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8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7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53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3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18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10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3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4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603360" y="5958000"/>
              <a:ext cx="3232800" cy="4680"/>
              <a:chOff x="603360" y="5958000"/>
              <a:chExt cx="3232800" cy="4680"/>
            </a:xfrm>
          </p:grpSpPr>
          <p:grpSp>
            <p:nvGrpSpPr>
              <p:cNvPr id="1564" name=""/>
              <p:cNvGrpSpPr/>
              <p:nvPr/>
            </p:nvGrpSpPr>
            <p:grpSpPr>
              <a:xfrm>
                <a:off x="2106360" y="5958000"/>
                <a:ext cx="1729800" cy="4680"/>
                <a:chOff x="2106360" y="5958000"/>
                <a:chExt cx="1729800" cy="46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833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823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81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3806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3798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3789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78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3771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3763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755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3746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3738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728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720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3711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7029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693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685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676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668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658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650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641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6331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623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615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607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5982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590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580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573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632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555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354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53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5283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520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51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0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493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485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477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468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460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450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442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33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425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415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407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398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39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380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372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363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35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345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337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330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320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312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303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295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285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277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6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260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250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24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23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225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215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20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2000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190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182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173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1651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155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47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138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13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12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112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103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09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08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077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069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060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0524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042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034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025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0171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007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999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990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9822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97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964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955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9473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293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930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9221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29124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2904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2895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887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8774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28695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286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285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28425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834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282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281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2807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7997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2791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782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774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7648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756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747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739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7298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721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712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70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694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2687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2677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66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660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652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644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634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626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617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609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599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592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58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574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565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55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54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539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530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52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514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04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496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487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4793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469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61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452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44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43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426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417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40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39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391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383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374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3666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356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349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339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2331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2322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314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2304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296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28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2279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269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2261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25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2244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236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226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218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09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201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191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1837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17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166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156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2148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13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131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121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1139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106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5" name=""/>
              <p:cNvSpPr/>
              <p:nvPr/>
            </p:nvSpPr>
            <p:spPr>
              <a:xfrm>
                <a:off x="2097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089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079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071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062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054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044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036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027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01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009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001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992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98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974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966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958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949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941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931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923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914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906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896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888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879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87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861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854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844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83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8288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819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811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801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7938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784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76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66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5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74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41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31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2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71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06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69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689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812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671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663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4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45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36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28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19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10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0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593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8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5760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56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558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50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5411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533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523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515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506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498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48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148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471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463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45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44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436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428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420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411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40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93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385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37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368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358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350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34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33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323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5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306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9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88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80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7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6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5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45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380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2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20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1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03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19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18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17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8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158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15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1430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133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12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080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0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090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0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07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0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55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0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03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0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20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0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9954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9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977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6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960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9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942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93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925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9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90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98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90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7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6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55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47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8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30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12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77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6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42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1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99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82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72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4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4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37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0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03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84280" y="4487760"/>
              <a:ext cx="3232800" cy="3240"/>
              <a:chOff x="584280" y="4487760"/>
              <a:chExt cx="3232800" cy="324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2085840" y="4487760"/>
                <a:ext cx="1731240" cy="3240"/>
                <a:chOff x="2085840" y="4487760"/>
                <a:chExt cx="1731240" cy="32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3812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80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795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787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779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769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7620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3752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3744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735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7270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17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09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700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369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682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3674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665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65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36493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639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631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622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614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604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596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587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57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569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561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552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54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53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526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3519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509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501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492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3484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474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466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3457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449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4394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431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42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41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404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3966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38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7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3714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3616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353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344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336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3326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318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30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30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2918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283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27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26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256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2490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241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231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2238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2140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206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196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188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1791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31712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161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15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14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136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126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11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10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101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093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84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762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66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58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49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412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3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023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014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00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99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988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2979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297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9635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953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945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936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9286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918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10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01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89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88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876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2866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85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84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841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831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823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815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06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798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7885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7806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771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763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7536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745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73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272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718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27108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270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69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6856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6758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667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2658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650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6409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6330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62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261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26060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598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258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58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571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5632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2555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2545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538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25282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520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511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2503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2493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2485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2476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46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45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450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441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243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242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415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407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2398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390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2380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372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363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3554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34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337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328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320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31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302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293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285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2777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68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60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50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2428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233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225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215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207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180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172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16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155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145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138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129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120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112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102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094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085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2077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068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060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050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04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033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025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16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00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00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90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982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73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965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55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947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938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93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920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912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903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89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885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877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68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860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52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842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834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825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817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807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800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90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78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77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765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55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4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73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30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722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712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7049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695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87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77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700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6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52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43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3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2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17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08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60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592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582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74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565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5573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547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539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530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5224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51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504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495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48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47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469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46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45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444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34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427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4173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409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400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392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3824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374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36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5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347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39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2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31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04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296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28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279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69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61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25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24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234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226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21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20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199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191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8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17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6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157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149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13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131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122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142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1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09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0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079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0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06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0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44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3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2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0191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0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001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9842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9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966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9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94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9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931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9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91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9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96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8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15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53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366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19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0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84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4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6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58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49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4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23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06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8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3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18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10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3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84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814320" y="3944880"/>
              <a:ext cx="9360" cy="1089000"/>
              <a:chOff x="814320" y="3944880"/>
              <a:chExt cx="9360" cy="1089000"/>
            </a:xfrm>
          </p:grpSpPr>
          <p:sp>
            <p:nvSpPr>
              <p:cNvPr id="2314" name=""/>
              <p:cNvSpPr/>
              <p:nvPr/>
            </p:nvSpPr>
            <p:spPr>
              <a:xfrm>
                <a:off x="814320" y="502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14320" y="50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14320" y="501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14320" y="5003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14320" y="499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14320" y="49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14320" y="497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14320" y="496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14320" y="4960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14320" y="49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14320" y="494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14320" y="49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14320" y="492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14320" y="491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14320" y="490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14320" y="489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14320" y="4890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14320" y="488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14320" y="48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14320" y="486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14320" y="485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4320" y="484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4320" y="48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14320" y="4830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14320" y="482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14320" y="481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14320" y="48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14320" y="479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14320" y="478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14320" y="477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4320" y="476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4320" y="47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5760" y="4751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5760" y="4743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5760" y="473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5760" y="47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15760" y="4716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15760" y="47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15760" y="4700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15760" y="46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15760" y="4683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5760" y="46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15760" y="4665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815760" y="465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15760" y="464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81576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815760" y="463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815760" y="462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15760" y="46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815760" y="460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15760" y="45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15760" y="458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5760" y="45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5760" y="456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15760" y="456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15760" y="4552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15760" y="45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15760" y="453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15760" y="452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760" y="451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15760" y="450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15760" y="450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15760" y="449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5760" y="4483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5760" y="447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15760" y="44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15760" y="445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15760" y="444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15760" y="443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15760" y="44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5760" y="4422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5760" y="441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15760" y="4405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15760" y="439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15760" y="438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15760" y="437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15760" y="437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15760" y="436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15760" y="4352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15760" y="434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15760" y="4335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15760" y="432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15760" y="4317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815760" y="430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15760" y="430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15760" y="429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15760" y="42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15760" y="4275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15760" y="426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15760" y="4257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15760" y="424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15760" y="424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815760" y="423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815760" y="422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15760" y="421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19000" y="4205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19000" y="419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19000" y="4187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19000" y="41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19000" y="4170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19000" y="41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19000" y="41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819000" y="414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9000" y="413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819000" y="412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19000" y="41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19000" y="4110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19000" y="4100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19000" y="4092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19000" y="408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19000" y="40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19000" y="4065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19000" y="4057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19000" y="404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19000" y="40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19000" y="4030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19000" y="402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19000" y="4014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19000" y="40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19000" y="3997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9000" y="398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19000" y="3979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19000" y="3970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19000" y="396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19000" y="3952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19000" y="3944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"/>
            <p:cNvGrpSpPr/>
            <p:nvPr/>
          </p:nvGrpSpPr>
          <p:grpSpPr>
            <a:xfrm>
              <a:off x="1457280" y="3951360"/>
              <a:ext cx="6120" cy="1089000"/>
              <a:chOff x="1457280" y="3951360"/>
              <a:chExt cx="6120" cy="1089000"/>
            </a:xfrm>
          </p:grpSpPr>
          <p:sp>
            <p:nvSpPr>
              <p:cNvPr id="2441" name=""/>
              <p:cNvSpPr/>
              <p:nvPr/>
            </p:nvSpPr>
            <p:spPr>
              <a:xfrm>
                <a:off x="1457280" y="503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457280" y="50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457280" y="501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457280" y="501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57280" y="500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457280" y="49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457280" y="4984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457280" y="497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457280" y="496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457280" y="495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457280" y="4950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457280" y="494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457280" y="4932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457280" y="492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457280" y="49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457280" y="490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457280" y="489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457280" y="488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457280" y="487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457280" y="4871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57280" y="486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57280" y="485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7280" y="484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7280" y="4836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57280" y="482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7280" y="481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57280" y="480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7280" y="480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57280" y="479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57280" y="47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7280" y="477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57280" y="4767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457280" y="475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57280" y="47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57280" y="474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7280" y="473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57280" y="4724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57280" y="47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57280" y="470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57280" y="469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57280" y="468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57280" y="468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57280" y="467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57280" y="466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57280" y="4654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57280" y="464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57280" y="46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57280" y="462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57280" y="4619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57280" y="461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57280" y="46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57280" y="4594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57280" y="4584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57280" y="457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57280" y="45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57280" y="455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57280" y="454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57280" y="454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57280" y="453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57280" y="45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57280" y="451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57280" y="4506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57280" y="449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58720" y="448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58720" y="447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58720" y="4471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5872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58720" y="445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58720" y="4446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58720" y="443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458720" y="442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458720" y="441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458720" y="4411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58720" y="4402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458720" y="4394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458720" y="43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458720" y="437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58720" y="436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458720" y="435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458720" y="4349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458720" y="434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458720" y="433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458720" y="4324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458720" y="4316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458720" y="4307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458720" y="4299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458720" y="42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458720" y="4281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458720" y="4272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458720" y="426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458720" y="425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458720" y="4246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458720" y="4237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458720" y="422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458720" y="421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458720" y="4211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458720" y="420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458720" y="419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458720" y="4186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4587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458720" y="4168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458720" y="4159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458720" y="415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458720" y="41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458720" y="4133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458720" y="412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458720" y="4116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458720" y="410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458720" y="409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458720" y="4089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458720" y="4081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458720" y="407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458720" y="406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458720" y="4054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458720" y="4046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458720" y="4038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458720" y="4029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458720" y="4021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458720" y="4011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458720" y="4003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458720" y="3994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458720" y="398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458720" y="397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458720" y="3968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4587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458720" y="395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2101680" y="3951360"/>
              <a:ext cx="6480" cy="1089000"/>
              <a:chOff x="2101680" y="3951360"/>
              <a:chExt cx="6480" cy="1089000"/>
            </a:xfrm>
          </p:grpSpPr>
          <p:sp>
            <p:nvSpPr>
              <p:cNvPr id="2568" name=""/>
              <p:cNvSpPr/>
              <p:nvPr/>
            </p:nvSpPr>
            <p:spPr>
              <a:xfrm>
                <a:off x="210168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10168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10168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10168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10168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10168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10168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10168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10168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10168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10168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168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168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168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0168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0168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0168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0168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0168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0168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0168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0168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0168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0168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0168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0168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0168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10168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10168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10168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10168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0168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101680" y="47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101680" y="474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101680" y="4740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101680" y="4732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1680" y="472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168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1680" y="470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01680" y="4697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01680" y="4689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01680" y="4680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01680" y="4672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01680" y="4662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01680" y="4654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01680" y="464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01680" y="463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01680" y="4627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01680" y="4619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01680" y="4610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01680" y="460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01680" y="459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01680" y="4584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101680" y="4576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101680" y="4567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101680" y="455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101680" y="4549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101680" y="4541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101680" y="453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101680" y="452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101680" y="451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1680" y="45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449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3120" y="448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03120" y="4479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03120" y="4471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03120" y="4462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03120" y="4454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03120" y="444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0312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3120" y="442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03120" y="441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03120" y="44118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03120" y="44020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03120" y="4394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03120" y="4384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03120" y="437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103120" y="4367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103120" y="4359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103120" y="4349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103120" y="434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103120" y="433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103120" y="4324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103120" y="4316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103120" y="4307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103120" y="429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2103120" y="4289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103120" y="4281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2103120" y="4272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103120" y="4264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103120" y="42544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103120" y="42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103120" y="423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103120" y="422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103120" y="421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103120" y="4211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103120" y="4202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103120" y="4194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2103120" y="4186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103120" y="4176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103120" y="4168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103120" y="415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103120" y="4151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103120" y="4141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103120" y="4133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103120" y="412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103120" y="41162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103120" y="410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103120" y="4098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103120" y="4089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103120" y="4081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103120" y="407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103120" y="406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103120" y="4054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103120" y="404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103120" y="4038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103120" y="4029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103120" y="4021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103120" y="4011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103120" y="4003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103120" y="3994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103120" y="3986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103120" y="39765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103120" y="3968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103120" y="395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103120" y="3951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4" name=""/>
            <p:cNvGrpSpPr/>
            <p:nvPr/>
          </p:nvGrpSpPr>
          <p:grpSpPr>
            <a:xfrm>
              <a:off x="2730600" y="3959280"/>
              <a:ext cx="9000" cy="1081080"/>
              <a:chOff x="2730600" y="3959280"/>
              <a:chExt cx="9000" cy="1081080"/>
            </a:xfrm>
          </p:grpSpPr>
          <p:sp>
            <p:nvSpPr>
              <p:cNvPr id="2695" name=""/>
              <p:cNvSpPr/>
              <p:nvPr/>
            </p:nvSpPr>
            <p:spPr>
              <a:xfrm>
                <a:off x="27306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7306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7306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7306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7306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7306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7306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7306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7306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7306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7306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7306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7306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7306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7306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7306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7306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7306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306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7306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7306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7306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7306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7306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306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7306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7306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7306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7306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7306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7306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7306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733480" y="4757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733480" y="474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733480" y="474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33480" y="47322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733480" y="4724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733480" y="4714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733480" y="470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733480" y="46972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733480" y="4689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733480" y="4680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733480" y="4672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733480" y="4662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733480" y="4654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33480" y="4645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733480" y="463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733480" y="4627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733480" y="4619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733480" y="4610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733480" y="460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733480" y="4594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33480" y="4584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733480" y="45766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733480" y="4567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733480" y="4559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33480" y="4549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733480" y="454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733480" y="4532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733480" y="452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733480" y="4514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733480" y="4506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733480" y="4497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733480" y="4489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733480" y="447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733480" y="44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733480" y="4462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733480" y="4454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733480" y="444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33480" y="4437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733480" y="442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733480" y="4419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733480" y="441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33480" y="4402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733480" y="4394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733480" y="4384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733480" y="437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733480" y="436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733480" y="4359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733480" y="4349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733480" y="4341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733480" y="433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733480" y="4324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733480" y="4316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733480" y="430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733480" y="429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733480" y="4289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733480" y="4281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733480" y="4272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733480" y="4264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733480" y="425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733480" y="4246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33480" y="4237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733480" y="4229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7352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7352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7352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7352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7352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7352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7352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7352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7352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7352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7352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7352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7352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7352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7352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7352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7352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352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7352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7352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7352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7352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7352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7352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7352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7352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7352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7352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7352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7352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7352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"/>
            <p:cNvGrpSpPr/>
            <p:nvPr/>
          </p:nvGrpSpPr>
          <p:grpSpPr>
            <a:xfrm>
              <a:off x="3362400" y="3959280"/>
              <a:ext cx="9000" cy="1081080"/>
              <a:chOff x="3362400" y="3959280"/>
              <a:chExt cx="9000" cy="1081080"/>
            </a:xfrm>
          </p:grpSpPr>
          <p:sp>
            <p:nvSpPr>
              <p:cNvPr id="2821" name=""/>
              <p:cNvSpPr/>
              <p:nvPr/>
            </p:nvSpPr>
            <p:spPr>
              <a:xfrm>
                <a:off x="33624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3624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3624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624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3624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3624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3624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3624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3624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3624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3624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3624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3624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3624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3624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3624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624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624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3624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3624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3624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3624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3624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3624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3624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3624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3624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3624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3624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3624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3624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3624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63840" y="4757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363840" y="474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63840" y="4740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363840" y="4732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63840" y="4724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63840" y="4714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63840" y="47070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363840" y="4697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363840" y="4689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363840" y="4680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363840" y="4672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363840" y="4662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363840" y="4654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363840" y="4645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363840" y="463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363840" y="4627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363840" y="4619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363840" y="4610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363840" y="460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363840" y="45943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363840" y="4584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363840" y="4576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363840" y="4567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363840" y="4559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363840" y="4549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363840" y="4541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363840" y="4532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363840" y="452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363840" y="4514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363840" y="4506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363840" y="4497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363840" y="448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363840" y="447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63840" y="4471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63840" y="4462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63840" y="4454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363840" y="44467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363840" y="443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363840" y="4429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363840" y="4419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363840" y="4411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363840" y="440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363840" y="4394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363840" y="4384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363840" y="437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363840" y="436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363840" y="4359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363840" y="4349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363840" y="434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363840" y="433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3363840" y="4324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363840" y="431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363840" y="430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3363840" y="4299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363840" y="4289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3363840" y="42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363840" y="427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363840" y="4264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363840" y="425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363840" y="4246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363840" y="4237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363840" y="422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3670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3670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3670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3670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3670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3670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3670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3670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3670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3670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3670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3670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3670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3670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3670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3670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3670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3670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3670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3670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3670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3670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3670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3670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3670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3670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3670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3670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3670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3670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3670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593640" y="503244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2080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25480" y="5364000"/>
              <a:ext cx="62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4605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106720" y="5370480"/>
              <a:ext cx="630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7367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5370480"/>
              <a:ext cx="219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45908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103480" y="5040360"/>
              <a:ext cx="1440" cy="334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733840" y="504036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3840" y="504036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00120" y="622620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816120" y="5961240"/>
              <a:ext cx="137880" cy="47520"/>
              <a:chOff x="816120" y="5961240"/>
              <a:chExt cx="137880" cy="47520"/>
            </a:xfrm>
          </p:grpSpPr>
          <p:sp>
            <p:nvSpPr>
              <p:cNvPr id="2959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1" name=""/>
            <p:cNvSpPr/>
            <p:nvPr/>
          </p:nvSpPr>
          <p:spPr>
            <a:xfrm>
              <a:off x="816120" y="6014880"/>
              <a:ext cx="288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1454040" y="6225840"/>
              <a:ext cx="180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46052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3060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5" name=""/>
            <p:cNvGrpSpPr/>
            <p:nvPr/>
          </p:nvGrpSpPr>
          <p:grpSpPr>
            <a:xfrm>
              <a:off x="2098800" y="5961240"/>
              <a:ext cx="137880" cy="47520"/>
              <a:chOff x="2098800" y="5961240"/>
              <a:chExt cx="137880" cy="47520"/>
            </a:xfrm>
          </p:grpSpPr>
          <p:sp>
            <p:nvSpPr>
              <p:cNvPr id="2966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8" name=""/>
            <p:cNvSpPr/>
            <p:nvPr/>
          </p:nvSpPr>
          <p:spPr>
            <a:xfrm>
              <a:off x="2098800" y="601488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2730600" y="6225840"/>
              <a:ext cx="144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3360600" y="5961240"/>
              <a:ext cx="136440" cy="47520"/>
              <a:chOff x="3360600" y="5961240"/>
              <a:chExt cx="136440" cy="47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86" y="3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3" name=""/>
            <p:cNvSpPr/>
            <p:nvPr/>
          </p:nvSpPr>
          <p:spPr>
            <a:xfrm>
              <a:off x="3360600" y="6014880"/>
              <a:ext cx="180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909800" y="4224240"/>
              <a:ext cx="1440" cy="488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755880" y="6264360"/>
              <a:ext cx="10980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793320" y="628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755880" y="5241960"/>
              <a:ext cx="10980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793320" y="525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27440" y="4265640"/>
              <a:ext cx="1094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767760" y="427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77720" y="416412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10480" y="41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71600" y="5140440"/>
              <a:ext cx="11088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000" y="515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77720" y="616428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10480" y="6176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55760" y="4495680"/>
              <a:ext cx="15264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290680" y="450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345400" y="4514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146320" y="5526000"/>
              <a:ext cx="11124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177640" y="554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23720" y="5762520"/>
              <a:ext cx="14616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56480" y="5778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0760" y="582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23720" y="4754520"/>
              <a:ext cx="14616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6480" y="4767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0760" y="4809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1600" y="3809880"/>
              <a:ext cx="11088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92840" y="3825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37480" y="3868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1" name=""/>
            <p:cNvGrpSpPr/>
            <p:nvPr/>
          </p:nvGrpSpPr>
          <p:grpSpPr>
            <a:xfrm>
              <a:off x="814320" y="5370480"/>
              <a:ext cx="6120" cy="620640"/>
              <a:chOff x="814320" y="5370480"/>
              <a:chExt cx="6120" cy="620640"/>
            </a:xfrm>
          </p:grpSpPr>
          <p:sp>
            <p:nvSpPr>
              <p:cNvPr id="3002" name=""/>
              <p:cNvSpPr/>
              <p:nvPr/>
            </p:nvSpPr>
            <p:spPr>
              <a:xfrm>
                <a:off x="81432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432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432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81432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81432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81432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81432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81432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81432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81432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81432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1432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81432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81432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81432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81432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81432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81432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81432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81432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81432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81432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81432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81432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81432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81432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432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81432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81432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81432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1432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81432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81432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81432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81432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81432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81576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1576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81576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576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1576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1576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81576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81576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81576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81576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1576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81576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81576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81576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81576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81576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81576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81576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81576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81576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81576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81576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81576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81576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81576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81576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81576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81576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81576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81576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81576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81576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81576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81576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81576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81576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4" name=""/>
            <p:cNvGrpSpPr/>
            <p:nvPr/>
          </p:nvGrpSpPr>
          <p:grpSpPr>
            <a:xfrm>
              <a:off x="2101680" y="5370480"/>
              <a:ext cx="4680" cy="620640"/>
              <a:chOff x="2101680" y="5370480"/>
              <a:chExt cx="4680" cy="620640"/>
            </a:xfrm>
          </p:grpSpPr>
          <p:sp>
            <p:nvSpPr>
              <p:cNvPr id="3075" name=""/>
              <p:cNvSpPr/>
              <p:nvPr/>
            </p:nvSpPr>
            <p:spPr>
              <a:xfrm>
                <a:off x="210168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10168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10168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10168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10168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10168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10168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10168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10168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210168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10168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10168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10168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10168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210168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10168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10168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10168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10168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210168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10168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10168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10168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10168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10168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210168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10168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10168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210168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10168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10168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1016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10168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10168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10168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10168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10168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10168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10168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10168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10168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10168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10168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10168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10168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10168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10168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10168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10168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10168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10168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10168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10168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210168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10168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10168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10168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10168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0168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10168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10168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10168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10168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10168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10168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10168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10168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10168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10168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10168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10168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10168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1457280" y="5364000"/>
              <a:ext cx="3240" cy="863640"/>
              <a:chOff x="1457280" y="5364000"/>
              <a:chExt cx="3240" cy="863640"/>
            </a:xfrm>
          </p:grpSpPr>
          <p:sp>
            <p:nvSpPr>
              <p:cNvPr id="3148" name=""/>
              <p:cNvSpPr/>
              <p:nvPr/>
            </p:nvSpPr>
            <p:spPr>
              <a:xfrm>
                <a:off x="1457280" y="6222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457280" y="6215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457280" y="620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457280" y="619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457280" y="618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457280" y="618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457280" y="6170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457280" y="616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457280" y="6153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457280" y="61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457280" y="613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457280" y="612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457280" y="6119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457280" y="611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457280" y="610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457280" y="609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457280" y="6084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457280" y="607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457280" y="606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457280" y="605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457280" y="604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457280" y="60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457280" y="603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457280" y="6022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457280" y="601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457280" y="600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457280" y="599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457280" y="598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457280" y="597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457280" y="597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457280" y="596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457280" y="5954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457280" y="594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1457280" y="5937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457280" y="59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457280" y="591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457280" y="591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457280" y="590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457280" y="58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1457280" y="588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457280" y="5875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457280" y="586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457280" y="585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1457280" y="585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457280" y="584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1457280" y="583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457280" y="582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457280" y="58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457280" y="5807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1457280" y="579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457280" y="5789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457280" y="578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457280" y="577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457280" y="5762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457280" y="5754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1457280" y="574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457280" y="573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457280" y="572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457280" y="571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1457280" y="571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457280" y="570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457280" y="569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457280" y="56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457280" y="567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457280" y="566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457280" y="5659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457280" y="56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457280" y="5641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457280" y="563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457280" y="5624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457280" y="56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457280" y="560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457280" y="559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457280" y="558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457280" y="5581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457280" y="557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457280" y="556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57280" y="555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57280" y="5546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457280" y="55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457280" y="552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457280" y="5519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457280" y="5511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457280" y="55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457280" y="5494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457280" y="548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1457280" y="5477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1457280" y="54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1457280" y="5459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1457280" y="545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457280" y="5442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457280" y="5433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457280" y="54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457280" y="541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457280" y="5407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457280" y="539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457280" y="538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457280" y="538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457280" y="5372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457280" y="5364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2730600" y="5357880"/>
              <a:ext cx="4680" cy="863640"/>
              <a:chOff x="2730600" y="5357880"/>
              <a:chExt cx="4680" cy="863640"/>
            </a:xfrm>
          </p:grpSpPr>
          <p:sp>
            <p:nvSpPr>
              <p:cNvPr id="3249" name=""/>
              <p:cNvSpPr/>
              <p:nvPr/>
            </p:nvSpPr>
            <p:spPr>
              <a:xfrm>
                <a:off x="2730600" y="621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730600" y="620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30600" y="619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730600" y="619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730600" y="618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730600" y="617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730600" y="616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730600" y="615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2730600" y="614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2730600" y="613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730600" y="612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730600" y="612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730600" y="6111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730600" y="61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2730600" y="609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730600" y="608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730600" y="607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730600" y="606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2730600" y="6060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2730600" y="605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2730600" y="6043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2730600" y="603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2730600" y="602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730600" y="601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730600" y="600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730600" y="5999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730600" y="599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730600" y="5981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2730600" y="597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730600" y="596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2730600" y="595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2730600" y="594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730600" y="593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730600" y="593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730600" y="59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2730600" y="5913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730600" y="590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730600" y="589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730600" y="58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2730600" y="587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2730600" y="5869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2730600" y="586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2730600" y="58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2730600" y="584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2730600" y="5834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2730600" y="582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2730600" y="581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2730600" y="580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2730600" y="580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2730600" y="579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2730600" y="5783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730600" y="57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730600" y="5765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2730600" y="575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2730600" y="574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2730600" y="57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2730600" y="573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2730600" y="572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2730600" y="571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2730600" y="57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2730600" y="569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730600" y="568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730600" y="567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730600" y="567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730600" y="56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730600" y="5653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730600" y="564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730600" y="5635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730600" y="56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730600" y="561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730600" y="560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730600" y="560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2730600" y="55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2730600" y="558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730600" y="557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730600" y="5565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730600" y="555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2730600" y="554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2730600" y="554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2730600" y="553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2730600" y="5522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2730600" y="55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2730600" y="550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2730600" y="549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2730600" y="5487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2730600" y="54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2730600" y="547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2730600" y="546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2730600" y="545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2730600" y="54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730600" y="54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730600" y="5425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730600" y="541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730600" y="541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2730600" y="540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730600" y="539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730600" y="538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730600" y="537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730600" y="53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730600" y="5357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9" name=""/>
            <p:cNvGrpSpPr/>
            <p:nvPr/>
          </p:nvGrpSpPr>
          <p:grpSpPr>
            <a:xfrm>
              <a:off x="3362400" y="5370480"/>
              <a:ext cx="4680" cy="620640"/>
              <a:chOff x="3362400" y="5370480"/>
              <a:chExt cx="4680" cy="620640"/>
            </a:xfrm>
          </p:grpSpPr>
          <p:sp>
            <p:nvSpPr>
              <p:cNvPr id="3350" name=""/>
              <p:cNvSpPr/>
              <p:nvPr/>
            </p:nvSpPr>
            <p:spPr>
              <a:xfrm>
                <a:off x="336240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36240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36240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36240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36240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36240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36240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36240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36240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336240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36240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36240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36240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36240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36240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36240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36240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36240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36240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36240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36240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36240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36240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36240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36240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36240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36240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36240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36240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36240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36240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36240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336240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336240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36240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36240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36240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36240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336240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336240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36240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36240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36240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36240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36240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36240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36240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36240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36240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36240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36240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36240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36240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36240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36240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36240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336240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336240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36240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36240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36240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36240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36240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36240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36240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36240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36240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36240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36240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36240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36240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36240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2" name=""/>
            <p:cNvSpPr/>
            <p:nvPr/>
          </p:nvSpPr>
          <p:spPr>
            <a:xfrm>
              <a:off x="609480" y="42307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09480" y="52243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09480" y="622620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1484280" y="5653080"/>
              <a:ext cx="12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967040" y="471312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06600" y="37972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568440" y="475128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581040" y="57150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0" name=""/>
            <p:cNvGrpSpPr/>
            <p:nvPr/>
          </p:nvGrpSpPr>
          <p:grpSpPr>
            <a:xfrm>
              <a:off x="5195880" y="4057560"/>
              <a:ext cx="3438360" cy="1980360"/>
              <a:chOff x="5195880" y="4057560"/>
              <a:chExt cx="3438360" cy="198036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6306480" y="5133960"/>
                <a:ext cx="201240" cy="407160"/>
                <a:chOff x="6306480" y="5133960"/>
                <a:chExt cx="201240" cy="407160"/>
              </a:xfrm>
            </p:grpSpPr>
            <p:sp>
              <p:nvSpPr>
                <p:cNvPr id="3432" name=""/>
                <p:cNvSpPr/>
                <p:nvPr/>
              </p:nvSpPr>
              <p:spPr>
                <a:xfrm>
                  <a:off x="6402240" y="5308560"/>
                  <a:ext cx="9648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306480" y="521496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40584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641700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7243920" y="5133960"/>
                <a:ext cx="105840" cy="407160"/>
                <a:chOff x="7243920" y="5133960"/>
                <a:chExt cx="105840" cy="40716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7243920" y="5308560"/>
                  <a:ext cx="9684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24788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25904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0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  <a:lnTo>
                      <a:pt x="265" y="19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H="1">
                <a:off x="6240600" y="4849920"/>
                <a:ext cx="1728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248600" y="4849920"/>
                <a:ext cx="1746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5" y="0"/>
                    </a:lnTo>
                    <a:lnTo>
                      <a:pt x="265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07120" y="5108400"/>
                <a:ext cx="85680" cy="268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5" name=""/>
              <p:cNvGrpSpPr/>
              <p:nvPr/>
            </p:nvGrpSpPr>
            <p:grpSpPr>
              <a:xfrm>
                <a:off x="6397560" y="4562640"/>
                <a:ext cx="433440" cy="6120"/>
                <a:chOff x="6397560" y="4562640"/>
                <a:chExt cx="433440" cy="6120"/>
              </a:xfrm>
            </p:grpSpPr>
            <p:sp>
              <p:nvSpPr>
                <p:cNvPr id="3456" name=""/>
                <p:cNvSpPr/>
                <p:nvPr/>
              </p:nvSpPr>
              <p:spPr>
                <a:xfrm>
                  <a:off x="6397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64101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6422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433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6446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64594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647064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64832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6495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650844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6519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532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65451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6556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6568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658152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6592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66052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661824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662940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66420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6654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6665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66783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6691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67021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7150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6727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6738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67514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7640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677700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67881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68007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68133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6824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2" name=""/>
              <p:cNvSpPr/>
              <p:nvPr/>
            </p:nvSpPr>
            <p:spPr>
              <a:xfrm>
                <a:off x="6605640" y="4138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668280" y="42004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041880" y="4492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104520" y="455436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422400" y="5751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492240" y="5764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555600" y="582444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936480" y="5157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52760" y="51418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95000" y="515160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6827760" y="4057560"/>
                <a:ext cx="0" cy="17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95880" y="5097600"/>
                <a:ext cx="34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 flipV="1">
              <a:off x="7446960" y="164412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V="1">
              <a:off x="5219640" y="15840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1434960" y="162036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V="1">
              <a:off x="1892160" y="25732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3711600" y="165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92280" y="6135840"/>
              <a:ext cx="3068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 flipH="1">
            <a:off x="3785760" y="5345280"/>
            <a:ext cx="1521000" cy="741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14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6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27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1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62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4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66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8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9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70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2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78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82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4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85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7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588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687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7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788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52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9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38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1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52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4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5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56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8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60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2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3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64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68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0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1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72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4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5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76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79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1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3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84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6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7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3988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0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1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3992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4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5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3996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8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00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04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6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7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08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11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3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18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21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3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1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32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3083040" y="2208240"/>
            <a:ext cx="51264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2135160" y="4468680"/>
            <a:ext cx="3240" cy="1119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2093760" y="446868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2122560" y="1270080"/>
            <a:ext cx="1440" cy="1123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2081160" y="1270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122560" y="2874960"/>
            <a:ext cx="1440" cy="1120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081160" y="28749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 flipH="1">
            <a:off x="2134800" y="5038560"/>
            <a:ext cx="361620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5665680" y="4997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H="1">
            <a:off x="2122560" y="1844640"/>
            <a:ext cx="356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600880" y="180324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2122200" y="3473280"/>
            <a:ext cx="3592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629320" y="34336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22560" y="1639800"/>
            <a:ext cx="129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52520" y="1639800"/>
            <a:ext cx="1800" cy="40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252520" y="20480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924280" y="16527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V="1">
            <a:off x="2924280" y="1647720"/>
            <a:ext cx="664920" cy="5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3589200" y="165276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589200" y="20606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260960" y="16653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260960" y="1652760"/>
            <a:ext cx="672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924440" y="165276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24440" y="2060640"/>
            <a:ext cx="355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135160" y="324648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403360" y="32576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403360" y="3665520"/>
            <a:ext cx="676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079800" y="32702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079800" y="3257640"/>
            <a:ext cx="6714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740040" y="32702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740040" y="3678120"/>
            <a:ext cx="6764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416480" y="328284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4416480" y="3270240"/>
            <a:ext cx="658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075280" y="327024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075280" y="3678120"/>
            <a:ext cx="293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2151000" y="5397480"/>
            <a:ext cx="125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22766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2289240" y="4721400"/>
            <a:ext cx="109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240336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403360" y="5397480"/>
            <a:ext cx="447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847960" y="4721400"/>
            <a:ext cx="32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86380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9782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978280" y="5397480"/>
            <a:ext cx="442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34210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3368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354816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548160" y="5397480"/>
            <a:ext cx="43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3995640" y="4721400"/>
            <a:ext cx="180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4008600" y="4721400"/>
            <a:ext cx="114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4122720" y="4721400"/>
            <a:ext cx="1440" cy="68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122720" y="5397480"/>
            <a:ext cx="460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4578480" y="4721400"/>
            <a:ext cx="468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595760" y="4721400"/>
            <a:ext cx="112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70844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708440" y="5397480"/>
            <a:ext cx="444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1530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16564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528012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5280120" y="5397480"/>
            <a:ext cx="218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698480" y="46512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1755720" y="4732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825560" y="4651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929600" y="4732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613120" y="1941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649480" y="3571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703480" y="5137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893960" y="4937040"/>
            <a:ext cx="20772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1950840" y="4973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1937880" y="3392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1937880" y="1774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869840" y="1176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955520" y="1257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856880" y="2817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942920" y="2898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869840" y="43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1955520" y="4456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1612800" y="5270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706400" y="52880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1763640" y="5369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833480" y="5288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37520" y="536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949480" y="2658960"/>
            <a:ext cx="324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4248000" y="2658960"/>
            <a:ext cx="180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3022200" y="2728800"/>
            <a:ext cx="1136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4151160" y="268776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944800" y="268272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29"/>
                </a:lnTo>
                <a:lnTo>
                  <a:pt x="54" y="54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2930400" y="2513160"/>
            <a:ext cx="152640" cy="0"/>
          </a:xfrm>
          <a:prstGeom prst="line">
            <a:avLst/>
          </a:prstGeom>
          <a:ln w="792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588480" y="247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30400" y="2055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083040" y="1674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167520" y="537840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139840" y="5195880"/>
            <a:ext cx="3438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H="1" flipV="1">
            <a:off x="5554440" y="5256360"/>
            <a:ext cx="569880" cy="296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84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8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09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0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11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1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1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52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54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4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7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8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6526440" y="484668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325600" y="5048280"/>
            <a:ext cx="33274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prostokątnych sygnałach sterują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4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85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86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9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390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3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394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8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399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3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04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6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07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10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13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9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20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65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5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8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29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1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32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4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35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36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8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39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1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42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49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50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53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5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56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8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38440" y="133020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41600" y="18907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2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693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2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03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7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2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13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14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4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15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5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16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6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17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7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4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686808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28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1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32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4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35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7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38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0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41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3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5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46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8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49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1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8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59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1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62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4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65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7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9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690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2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6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697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8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29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0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61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52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3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7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68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1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6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77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82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5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86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5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6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07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0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11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7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4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15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4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2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73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2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9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50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2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63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2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4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65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1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72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73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3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5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16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6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9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7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4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7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088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0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5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096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13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5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3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74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6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7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78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0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81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3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87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7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198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4" name=""/>
          <p:cNvGrpSpPr/>
          <p:nvPr/>
        </p:nvGrpSpPr>
        <p:grpSpPr>
          <a:xfrm>
            <a:off x="1560600" y="1747800"/>
            <a:ext cx="6378480" cy="4633920"/>
            <a:chOff x="1560600" y="1747800"/>
            <a:chExt cx="6378480" cy="4633920"/>
          </a:xfrm>
        </p:grpSpPr>
        <p:sp>
          <p:nvSpPr>
            <p:cNvPr id="7265" name=""/>
            <p:cNvSpPr/>
            <p:nvPr/>
          </p:nvSpPr>
          <p:spPr>
            <a:xfrm>
              <a:off x="5165640" y="239076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217840" y="242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339880" y="2495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051520" y="261792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092560" y="265104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H="1">
              <a:off x="5079600" y="263988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913120" y="249228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3023640" y="252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3184560" y="270504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4027320" y="244944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282920" y="26575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421240" y="244944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5663880" y="2657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3735360" y="2657520"/>
              <a:ext cx="279360" cy="82440"/>
              <a:chOff x="3735360" y="2657520"/>
              <a:chExt cx="279360" cy="82440"/>
            </a:xfrm>
          </p:grpSpPr>
          <p:sp>
            <p:nvSpPr>
              <p:cNvPr id="7279" name=""/>
              <p:cNvSpPr/>
              <p:nvPr/>
            </p:nvSpPr>
            <p:spPr>
              <a:xfrm>
                <a:off x="3735360" y="269712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3925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1" name=""/>
            <p:cNvGrpSpPr/>
            <p:nvPr/>
          </p:nvGrpSpPr>
          <p:grpSpPr>
            <a:xfrm>
              <a:off x="5295960" y="2668680"/>
              <a:ext cx="112680" cy="82440"/>
              <a:chOff x="5295960" y="2668680"/>
              <a:chExt cx="112680" cy="82440"/>
            </a:xfrm>
          </p:grpSpPr>
          <p:sp>
            <p:nvSpPr>
              <p:cNvPr id="7282" name=""/>
              <p:cNvSpPr/>
              <p:nvPr/>
            </p:nvSpPr>
            <p:spPr>
              <a:xfrm>
                <a:off x="5295960" y="270828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531972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4" name=""/>
            <p:cNvGrpSpPr/>
            <p:nvPr/>
          </p:nvGrpSpPr>
          <p:grpSpPr>
            <a:xfrm>
              <a:off x="4873680" y="2668680"/>
              <a:ext cx="166680" cy="82440"/>
              <a:chOff x="4873680" y="2668680"/>
              <a:chExt cx="166680" cy="82440"/>
            </a:xfrm>
          </p:grpSpPr>
          <p:sp>
            <p:nvSpPr>
              <p:cNvPr id="7285" name=""/>
              <p:cNvSpPr/>
              <p:nvPr/>
            </p:nvSpPr>
            <p:spPr>
              <a:xfrm>
                <a:off x="4873680" y="270828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495144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5121360" y="2370240"/>
              <a:ext cx="93600" cy="247680"/>
              <a:chOff x="5121360" y="2370240"/>
              <a:chExt cx="93600" cy="247680"/>
            </a:xfrm>
          </p:grpSpPr>
          <p:sp>
            <p:nvSpPr>
              <p:cNvPr id="7288" name=""/>
              <p:cNvSpPr/>
              <p:nvPr/>
            </p:nvSpPr>
            <p:spPr>
              <a:xfrm>
                <a:off x="5165640" y="237024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5121360" y="237024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121360" y="253836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1" name=""/>
            <p:cNvGrpSpPr/>
            <p:nvPr/>
          </p:nvGrpSpPr>
          <p:grpSpPr>
            <a:xfrm>
              <a:off x="2370240" y="2657520"/>
              <a:ext cx="555480" cy="82440"/>
              <a:chOff x="2370240" y="2657520"/>
              <a:chExt cx="55548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2370240" y="269712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836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3262320" y="2909880"/>
              <a:ext cx="92160" cy="247680"/>
              <a:chOff x="3262320" y="2909880"/>
              <a:chExt cx="92160" cy="247680"/>
            </a:xfrm>
          </p:grpSpPr>
          <p:sp>
            <p:nvSpPr>
              <p:cNvPr id="7295" name=""/>
              <p:cNvSpPr/>
              <p:nvPr/>
            </p:nvSpPr>
            <p:spPr>
              <a:xfrm flipV="1">
                <a:off x="3306600" y="290988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3262320" y="290988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7" name=""/>
            <p:cNvSpPr/>
            <p:nvPr/>
          </p:nvSpPr>
          <p:spPr>
            <a:xfrm>
              <a:off x="3317760" y="315756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H="1">
              <a:off x="6254280" y="269712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6408720" y="270828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4983120" y="223668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 flipH="1">
              <a:off x="5327640" y="229392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 flipH="1">
              <a:off x="4805280" y="229392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6377040" y="267192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813200" y="184140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314440" y="267192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4781520" y="180828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6972480" y="267192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196720" y="2782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2317320" y="285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354400" y="27828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4586040" y="1895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523200" y="273996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6595560" y="276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664308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6701040" y="2768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94764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5497560" y="223344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610000" y="283068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2674800" y="283068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751120" y="283068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811600" y="284472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 flipH="1" flipV="1">
              <a:off x="2521080" y="291888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 flipH="1">
              <a:off x="2604960" y="283068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H="1">
              <a:off x="2666880" y="291924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 flipH="1">
              <a:off x="2730600" y="283068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 flipH="1">
              <a:off x="2795760" y="291924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5006880" y="17478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5230800" y="1927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9" name=""/>
            <p:cNvGrpSpPr/>
            <p:nvPr/>
          </p:nvGrpSpPr>
          <p:grpSpPr>
            <a:xfrm>
              <a:off x="1719360" y="1905120"/>
              <a:ext cx="83880" cy="465120"/>
              <a:chOff x="1719360" y="1905120"/>
              <a:chExt cx="83880" cy="465120"/>
            </a:xfrm>
          </p:grpSpPr>
          <p:sp>
            <p:nvSpPr>
              <p:cNvPr id="7330" name=""/>
              <p:cNvSpPr/>
              <p:nvPr/>
            </p:nvSpPr>
            <p:spPr>
              <a:xfrm>
                <a:off x="1758960" y="197316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19360" y="190512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2" name=""/>
            <p:cNvGrpSpPr/>
            <p:nvPr/>
          </p:nvGrpSpPr>
          <p:grpSpPr>
            <a:xfrm>
              <a:off x="1743120" y="2333520"/>
              <a:ext cx="1008000" cy="76320"/>
              <a:chOff x="1743120" y="2333520"/>
              <a:chExt cx="1008000" cy="76320"/>
            </a:xfrm>
          </p:grpSpPr>
          <p:sp>
            <p:nvSpPr>
              <p:cNvPr id="7333" name=""/>
              <p:cNvSpPr/>
              <p:nvPr/>
            </p:nvSpPr>
            <p:spPr>
              <a:xfrm flipH="1">
                <a:off x="1743120" y="237024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666880" y="233352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5" name=""/>
            <p:cNvSpPr/>
            <p:nvPr/>
          </p:nvSpPr>
          <p:spPr>
            <a:xfrm>
              <a:off x="1868400" y="213192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49400" y="21654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2030400" y="219384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2116080" y="222552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2197080" y="224784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2278080" y="226548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2362320" y="229716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2443320" y="231948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1560600" y="186516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1589040" y="18954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505240" y="240192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556360" y="2430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1815120" y="2419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186048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2122920" y="2419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24460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1" name=""/>
            <p:cNvGrpSpPr/>
            <p:nvPr/>
          </p:nvGrpSpPr>
          <p:grpSpPr>
            <a:xfrm>
              <a:off x="2176560" y="3459240"/>
              <a:ext cx="83880" cy="2666880"/>
              <a:chOff x="2176560" y="3459240"/>
              <a:chExt cx="83880" cy="2666880"/>
            </a:xfrm>
          </p:grpSpPr>
          <p:sp>
            <p:nvSpPr>
              <p:cNvPr id="7352" name=""/>
              <p:cNvSpPr/>
              <p:nvPr/>
            </p:nvSpPr>
            <p:spPr>
              <a:xfrm>
                <a:off x="2216160" y="352728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2176560" y="345924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4" name=""/>
            <p:cNvGrpSpPr/>
            <p:nvPr/>
          </p:nvGrpSpPr>
          <p:grpSpPr>
            <a:xfrm>
              <a:off x="2200320" y="6078600"/>
              <a:ext cx="3727440" cy="75960"/>
              <a:chOff x="2200320" y="6078600"/>
              <a:chExt cx="3727440" cy="75960"/>
            </a:xfrm>
          </p:grpSpPr>
          <p:sp>
            <p:nvSpPr>
              <p:cNvPr id="7355" name=""/>
              <p:cNvSpPr/>
              <p:nvPr/>
            </p:nvSpPr>
            <p:spPr>
              <a:xfrm flipH="1">
                <a:off x="2200320" y="611496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5842080" y="6078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7" name=""/>
            <p:cNvGrpSpPr/>
            <p:nvPr/>
          </p:nvGrpSpPr>
          <p:grpSpPr>
            <a:xfrm>
              <a:off x="2171880" y="5614920"/>
              <a:ext cx="607680" cy="14400"/>
              <a:chOff x="2171880" y="5614920"/>
              <a:chExt cx="607680" cy="14400"/>
            </a:xfrm>
          </p:grpSpPr>
          <p:sp>
            <p:nvSpPr>
              <p:cNvPr id="7358" name=""/>
              <p:cNvSpPr/>
              <p:nvPr/>
            </p:nvSpPr>
            <p:spPr>
              <a:xfrm>
                <a:off x="27716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755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73996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2722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706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690640" y="5614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2674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657520" y="56149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641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625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610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593800" y="56181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576520" y="5618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560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44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29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13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495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479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463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448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432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414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398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382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367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351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33352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317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301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286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270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25252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236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220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205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189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1718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6" name=""/>
            <p:cNvGrpSpPr/>
            <p:nvPr/>
          </p:nvGrpSpPr>
          <p:grpSpPr>
            <a:xfrm>
              <a:off x="2179800" y="5783400"/>
              <a:ext cx="396720" cy="15840"/>
              <a:chOff x="2179800" y="5783400"/>
              <a:chExt cx="396720" cy="15840"/>
            </a:xfrm>
          </p:grpSpPr>
          <p:sp>
            <p:nvSpPr>
              <p:cNvPr id="7397" name=""/>
              <p:cNvSpPr/>
              <p:nvPr/>
            </p:nvSpPr>
            <p:spPr>
              <a:xfrm>
                <a:off x="2568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52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53692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52108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50524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487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471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455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440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42424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406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390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374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359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341440" y="578808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325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309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293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278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260440" y="5791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24460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22876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21292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19708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179800" y="5791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2" name=""/>
            <p:cNvSpPr/>
            <p:nvPr/>
          </p:nvSpPr>
          <p:spPr>
            <a:xfrm>
              <a:off x="4991040" y="376236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687920" y="395604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356000" y="414648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051440" y="43275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3711600" y="45068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456000" y="47084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168720" y="492120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2913120" y="511164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2685960" y="529128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2471760" y="545004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2281320" y="56181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2241720" y="578808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998960" y="376560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962600" y="376560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998960" y="38624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019840" y="38624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719600" y="3944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683240" y="3944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719600" y="404352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745160" y="404352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392720" y="412596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356000" y="412596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392720" y="422280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411800" y="42228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3516480" y="47228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3479760" y="4722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3516480" y="481644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3541680" y="481644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471760" y="56116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432160" y="561168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47176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49552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641680" y="545292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610000" y="545292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641680" y="553572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2666880" y="553572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795840" y="45068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760920" y="450684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795840" y="460368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816360" y="4603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26556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22884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265560" y="50180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286080" y="501804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998800" y="510372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962440" y="510372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998800" y="519732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022560" y="519732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00400" y="432756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064040" y="432756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100400" y="441648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121280" y="441648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80368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75904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803680" y="538164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832120" y="538164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594040" y="6186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5716080" y="6259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1925640" y="3916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058120" y="398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1969920" y="3535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017080" y="360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1925640" y="5694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058120" y="5765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1925640" y="5456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058120" y="5529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006280" y="593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053440" y="600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0" name=""/>
                <p:cNvSpPr txBox="1"/>
                <p:nvPr/>
              </p:nvSpPr>
              <p:spPr>
                <a:xfrm>
                  <a:off x="6789600" y="459432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1" name=""/>
          <p:cNvSpPr/>
          <p:nvPr/>
        </p:nvSpPr>
        <p:spPr>
          <a:xfrm>
            <a:off x="1660680" y="63295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dostraja się do harmonicznych sygnału wejści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>
            <a:off x="4385520" y="2332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4488840" y="2430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>
            <a:off x="4558680" y="233208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7616880" y="2273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7674840" y="2371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7743240" y="2273400"/>
            <a:ext cx="32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8076960" y="2371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753876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66080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7728480" y="277344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800388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812592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7010280" y="4775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7010280" y="4735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7010280" y="4716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7010280" y="4676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7010280" y="4657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7010280" y="4618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7010280" y="4599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7010280" y="45594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7010280" y="4540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7010280" y="4500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7010280" y="4481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7010280" y="4441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7010280" y="4422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7010280" y="4383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7010280" y="4363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7010280" y="4324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7010280" y="4305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7010280" y="4265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7010280" y="4246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010280" y="4206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010280" y="4187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7010280" y="4148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7010280" y="4129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7010280" y="4089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7010280" y="4070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010280" y="4030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7010280" y="4011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7010280" y="3971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7010280" y="3952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7010280" y="3913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7010280" y="38941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7010280" y="3854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7010280" y="3835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7010280" y="3795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7010280" y="3776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10280" y="3736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7010280" y="3718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7010280" y="3678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>
            <a:off x="7010280" y="3659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7010280" y="3619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>
            <a:off x="7010280" y="3600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>
            <a:off x="7010280" y="3560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7010280" y="3541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010280" y="3502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>
            <a:off x="7010280" y="3483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>
            <a:off x="7010280" y="344340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7010280" y="3424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7010280" y="3384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7010280" y="33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7010280" y="3325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7010280" y="3306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7010280" y="3267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7010280" y="3247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7010280" y="3208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7010280" y="3189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7010280" y="3149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7010280" y="3130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10280" y="3090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7010280" y="3071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7010280" y="3032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7010280" y="3013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7010280" y="2973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010280" y="2954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7010280" y="2914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7010280" y="2895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7010280" y="2855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7010280" y="2836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7010280" y="2797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7010280" y="2778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7010280" y="2738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7010280" y="2719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7010280" y="2679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7010280" y="2660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7010280" y="2620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010280" y="2602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7010280" y="2562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7010280" y="2543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7010280" y="2503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7010280" y="2484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7010280" y="2444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7010280" y="2425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7010280" y="2386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7010280" y="2367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7010280" y="232740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7010280" y="2308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7010280" y="226836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7010280" y="2249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7010280" y="220968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7010280" y="2190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7010280" y="215100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7010280" y="2131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7010280" y="209232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7010280" y="207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010280" y="203364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010280" y="2014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7010280" y="197496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7010280" y="1955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7010280" y="191628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7010280" y="1897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7010280" y="185724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7010280" y="1838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55753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>
            <a:off x="5340240" y="180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51055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487044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5008320" y="184320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>
            <a:off x="1125360" y="2282760"/>
            <a:ext cx="131796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1419840" y="232236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1616040" y="25671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2976480" y="2282760"/>
            <a:ext cx="132084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3442680" y="2567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5086440" y="2282760"/>
            <a:ext cx="132228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5536800" y="2567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8" name=""/>
          <p:cNvGrpSpPr/>
          <p:nvPr/>
        </p:nvGrpSpPr>
        <p:grpSpPr>
          <a:xfrm>
            <a:off x="2438280" y="2635200"/>
            <a:ext cx="524160" cy="103320"/>
            <a:chOff x="2438280" y="2635200"/>
            <a:chExt cx="524160" cy="103320"/>
          </a:xfrm>
        </p:grpSpPr>
        <p:sp>
          <p:nvSpPr>
            <p:cNvPr id="7619" name=""/>
            <p:cNvSpPr/>
            <p:nvPr/>
          </p:nvSpPr>
          <p:spPr>
            <a:xfrm>
              <a:off x="2438280" y="2679840"/>
              <a:ext cx="524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85912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1" name=""/>
          <p:cNvGrpSpPr/>
          <p:nvPr/>
        </p:nvGrpSpPr>
        <p:grpSpPr>
          <a:xfrm>
            <a:off x="4303800" y="2616120"/>
            <a:ext cx="782640" cy="103320"/>
            <a:chOff x="4303800" y="2616120"/>
            <a:chExt cx="782640" cy="103320"/>
          </a:xfrm>
        </p:grpSpPr>
        <p:sp>
          <p:nvSpPr>
            <p:cNvPr id="7622" name=""/>
            <p:cNvSpPr/>
            <p:nvPr/>
          </p:nvSpPr>
          <p:spPr>
            <a:xfrm>
              <a:off x="4303800" y="2665440"/>
              <a:ext cx="78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4983120" y="26161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4" name=""/>
          <p:cNvGrpSpPr/>
          <p:nvPr/>
        </p:nvGrpSpPr>
        <p:grpSpPr>
          <a:xfrm>
            <a:off x="465120" y="2635200"/>
            <a:ext cx="646200" cy="103320"/>
            <a:chOff x="465120" y="2635200"/>
            <a:chExt cx="646200" cy="103320"/>
          </a:xfrm>
        </p:grpSpPr>
        <p:sp>
          <p:nvSpPr>
            <p:cNvPr id="7625" name=""/>
            <p:cNvSpPr/>
            <p:nvPr/>
          </p:nvSpPr>
          <p:spPr>
            <a:xfrm>
              <a:off x="465120" y="267984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100800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7" name=""/>
          <p:cNvGrpSpPr/>
          <p:nvPr/>
        </p:nvGrpSpPr>
        <p:grpSpPr>
          <a:xfrm>
            <a:off x="1717560" y="3045960"/>
            <a:ext cx="103320" cy="1181160"/>
            <a:chOff x="1717560" y="3045960"/>
            <a:chExt cx="103320" cy="1181160"/>
          </a:xfrm>
        </p:grpSpPr>
        <p:sp>
          <p:nvSpPr>
            <p:cNvPr id="7628" name=""/>
            <p:cNvSpPr/>
            <p:nvPr/>
          </p:nvSpPr>
          <p:spPr>
            <a:xfrm flipV="1">
              <a:off x="1766880" y="3045960"/>
              <a:ext cx="14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717560" y="3046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0" name=""/>
          <p:cNvSpPr/>
          <p:nvPr/>
        </p:nvSpPr>
        <p:spPr>
          <a:xfrm>
            <a:off x="1782720" y="4227480"/>
            <a:ext cx="331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 flipV="1">
            <a:off x="6676920" y="2679480"/>
            <a:ext cx="18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6423120" y="2665440"/>
            <a:ext cx="150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6648480" y="264492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25520" y="2651040"/>
            <a:ext cx="698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900920" y="2630520"/>
            <a:ext cx="586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338040" y="2317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396360" y="2416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3225960" y="4334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28392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3352320" y="43340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354924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3618000" y="4334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3693600" y="4314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3784680" y="433404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3896640" y="44323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3485880" y="457992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3201840" y="48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326016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3328920" y="48340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3577680" y="49323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3691080" y="48340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3766680" y="48150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3857760" y="483408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96972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5100480" y="3830760"/>
            <a:ext cx="1322640" cy="75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5654520" y="41148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7" name=""/>
          <p:cNvGrpSpPr/>
          <p:nvPr/>
        </p:nvGrpSpPr>
        <p:grpSpPr>
          <a:xfrm>
            <a:off x="6432480" y="4173480"/>
            <a:ext cx="258840" cy="101520"/>
            <a:chOff x="6432480" y="4173480"/>
            <a:chExt cx="258840" cy="101520"/>
          </a:xfrm>
        </p:grpSpPr>
        <p:sp>
          <p:nvSpPr>
            <p:cNvPr id="7658" name=""/>
            <p:cNvSpPr/>
            <p:nvPr/>
          </p:nvSpPr>
          <p:spPr>
            <a:xfrm>
              <a:off x="6432480" y="4227480"/>
              <a:ext cx="25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6432480" y="417348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0" y="34"/>
                  </a:lnTo>
                  <a:lnTo>
                    <a:pt x="65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0" name=""/>
          <p:cNvSpPr/>
          <p:nvPr/>
        </p:nvSpPr>
        <p:spPr>
          <a:xfrm>
            <a:off x="1851120" y="3619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1909080" y="3718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1977840" y="36194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2172960" y="3718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1850760" y="385452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1972800" y="3971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288720" y="27687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410760" y="2886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4836960" y="211464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0" name=""/>
          <p:cNvSpPr/>
          <p:nvPr/>
        </p:nvSpPr>
        <p:spPr>
          <a:xfrm>
            <a:off x="5106600" y="2062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1201680" y="2505240"/>
            <a:ext cx="13287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1497600" y="25448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1693800" y="279072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3186000" y="2505240"/>
            <a:ext cx="13305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3655440" y="27907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186520" y="2505240"/>
            <a:ext cx="133020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5638320" y="2790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2521080" y="2859120"/>
            <a:ext cx="650880" cy="104760"/>
            <a:chOff x="2521080" y="2859120"/>
            <a:chExt cx="650880" cy="104760"/>
          </a:xfrm>
        </p:grpSpPr>
        <p:sp>
          <p:nvSpPr>
            <p:cNvPr id="7679" name=""/>
            <p:cNvSpPr/>
            <p:nvPr/>
          </p:nvSpPr>
          <p:spPr>
            <a:xfrm>
              <a:off x="2521080" y="2903400"/>
              <a:ext cx="6508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306864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1" name=""/>
          <p:cNvGrpSpPr/>
          <p:nvPr/>
        </p:nvGrpSpPr>
        <p:grpSpPr>
          <a:xfrm>
            <a:off x="4540320" y="2840040"/>
            <a:ext cx="646200" cy="103320"/>
            <a:chOff x="4540320" y="2840040"/>
            <a:chExt cx="646200" cy="103320"/>
          </a:xfrm>
        </p:grpSpPr>
        <p:sp>
          <p:nvSpPr>
            <p:cNvPr id="7682" name=""/>
            <p:cNvSpPr/>
            <p:nvPr/>
          </p:nvSpPr>
          <p:spPr>
            <a:xfrm>
              <a:off x="4540320" y="2889360"/>
              <a:ext cx="64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08320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4" name=""/>
          <p:cNvGrpSpPr/>
          <p:nvPr/>
        </p:nvGrpSpPr>
        <p:grpSpPr>
          <a:xfrm>
            <a:off x="536400" y="2859120"/>
            <a:ext cx="649440" cy="104760"/>
            <a:chOff x="536400" y="2859120"/>
            <a:chExt cx="649440" cy="104760"/>
          </a:xfrm>
        </p:grpSpPr>
        <p:sp>
          <p:nvSpPr>
            <p:cNvPr id="7685" name=""/>
            <p:cNvSpPr/>
            <p:nvPr/>
          </p:nvSpPr>
          <p:spPr>
            <a:xfrm>
              <a:off x="536400" y="2903400"/>
              <a:ext cx="649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108252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7" name=""/>
          <p:cNvGrpSpPr/>
          <p:nvPr/>
        </p:nvGrpSpPr>
        <p:grpSpPr>
          <a:xfrm>
            <a:off x="1797120" y="3273480"/>
            <a:ext cx="102960" cy="1187280"/>
            <a:chOff x="1797120" y="3273480"/>
            <a:chExt cx="102960" cy="1187280"/>
          </a:xfrm>
        </p:grpSpPr>
        <p:sp>
          <p:nvSpPr>
            <p:cNvPr id="7688" name=""/>
            <p:cNvSpPr/>
            <p:nvPr/>
          </p:nvSpPr>
          <p:spPr>
            <a:xfrm flipV="1">
              <a:off x="1846440" y="3273480"/>
              <a:ext cx="1440" cy="11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1797120" y="32734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0" name=""/>
          <p:cNvSpPr/>
          <p:nvPr/>
        </p:nvSpPr>
        <p:spPr>
          <a:xfrm>
            <a:off x="5915160" y="4829040"/>
            <a:ext cx="468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1860480" y="4460760"/>
            <a:ext cx="334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 flipV="1">
            <a:off x="6786720" y="2903400"/>
            <a:ext cx="144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3" name=""/>
          <p:cNvGrpSpPr/>
          <p:nvPr/>
        </p:nvGrpSpPr>
        <p:grpSpPr>
          <a:xfrm>
            <a:off x="6531120" y="2840040"/>
            <a:ext cx="1512720" cy="103320"/>
            <a:chOff x="6531120" y="2840040"/>
            <a:chExt cx="1512720" cy="103320"/>
          </a:xfrm>
        </p:grpSpPr>
        <p:sp>
          <p:nvSpPr>
            <p:cNvPr id="7694" name=""/>
            <p:cNvSpPr/>
            <p:nvPr/>
          </p:nvSpPr>
          <p:spPr>
            <a:xfrm>
              <a:off x="6531120" y="288936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794052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6" name=""/>
          <p:cNvSpPr/>
          <p:nvPr/>
        </p:nvSpPr>
        <p:spPr>
          <a:xfrm>
            <a:off x="6757920" y="287028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501480" y="2874960"/>
            <a:ext cx="6372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5896080" y="5529240"/>
            <a:ext cx="5868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318960" y="2505240"/>
            <a:ext cx="344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407880" y="2540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465480" y="2638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3314880" y="45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33732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>
            <a:off x="3441240" y="45687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36396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3708360" y="4568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3783960" y="45496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3876840" y="45687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3988080" y="46674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3574800" y="48150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3289320" y="507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334764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3417840" y="5070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3667680" y="51688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3782880" y="5070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3858480" y="50515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949560" y="50706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406188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5200560" y="4060800"/>
            <a:ext cx="13305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5482440" y="434664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esz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540480" y="4406760"/>
            <a:ext cx="262080" cy="103320"/>
            <a:chOff x="6540480" y="4406760"/>
            <a:chExt cx="262080" cy="103320"/>
          </a:xfrm>
        </p:grpSpPr>
        <p:sp>
          <p:nvSpPr>
            <p:cNvPr id="7722" name=""/>
            <p:cNvSpPr/>
            <p:nvPr/>
          </p:nvSpPr>
          <p:spPr>
            <a:xfrm>
              <a:off x="6540480" y="4460760"/>
              <a:ext cx="26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6540480" y="44067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4"/>
                  </a:lnTo>
                  <a:lnTo>
                    <a:pt x="65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4" name=""/>
          <p:cNvSpPr/>
          <p:nvPr/>
        </p:nvSpPr>
        <p:spPr>
          <a:xfrm>
            <a:off x="1998720" y="4110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2057040" y="4210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126880" y="411012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323080" y="42102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7373880" y="3076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7432200" y="31748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7500600" y="30765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769680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7812000" y="3076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7887600" y="305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>
            <a:off x="7978680" y="30765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809208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7654680" y="33228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7343640" y="3578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7402320" y="3676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7472520" y="35784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772200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7835760" y="3578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7913160" y="3559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8004240" y="35784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811584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986360" y="240048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5943240" y="5919840"/>
            <a:ext cx="245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 z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 flipV="1">
            <a:off x="5900760" y="5764320"/>
            <a:ext cx="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7341840" y="23716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>
            <a:off x="3511080" y="38847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2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7753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0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7761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3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7764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6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7767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9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7770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2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6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8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7789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1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7802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4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7805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7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8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7809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1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5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7856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8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6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7867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9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1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7882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4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7888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0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4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7895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7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7898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0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7901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3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1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4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005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6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007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9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010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2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013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5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016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8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0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021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3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024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6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9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030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2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033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5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9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040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2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043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5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9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060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2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6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067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9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070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2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4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075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3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7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70000" cy="1897200"/>
            <a:chOff x="171360" y="2244600"/>
            <a:chExt cx="837000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6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V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979640" y="5638680"/>
            <a:ext cx="45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5640" y="314496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7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69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5-01-19T17:49:27Z</dcterms:modified>
  <cp:revision>34</cp:revision>
  <dc:subject/>
  <dc:title>Pętla PLL</dc:title>
</cp:coreProperties>
</file>